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  <p:sldId id="273" r:id="rId53"/>
    <p:sldId id="274" r:id="rId54"/>
    <p:sldId id="275" r:id="rId55"/>
    <p:sldId id="276" r:id="rId56"/>
    <p:sldId id="277" r:id="rId57"/>
    <p:sldId id="278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slide" Target="slides/slide18.xml"/><Relationship Id="rId54" Type="http://schemas.openxmlformats.org/officeDocument/2006/relationships/slide" Target="slides/slide19.xml"/><Relationship Id="rId55" Type="http://schemas.openxmlformats.org/officeDocument/2006/relationships/slide" Target="slides/slide20.xml"/><Relationship Id="rId56" Type="http://schemas.openxmlformats.org/officeDocument/2006/relationships/slide" Target="slides/slide21.xml"/><Relationship Id="rId57" Type="http://schemas.openxmlformats.org/officeDocument/2006/relationships/slide" Target="slides/slide22.xml"/><Relationship Id="rId58" Type="http://schemas.openxmlformats.org/officeDocument/2006/relationships/slide" Target="slides/slide23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dt" idx="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ftr" idx="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 type="sldNum" idx="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12C5-6875-4130-9867-73B2F27F3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D5BF-A09A-4926-8902-42C0169A7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FB1F-D084-4AAD-9D50-CABEC8734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4841-0845-465B-94D3-94E646E4C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DD7E-BADC-45EE-A433-EAA6B1D92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A6E9-CC61-48CB-A416-B38C9792B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84B5-7394-4A26-B9F8-12267C1F2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6B50-42A3-4095-B1D1-DF2959C8A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he restore of Intro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2968-8C0B-4BB7-AD82-FAFE899DD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backup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7B0F-9378-4E2F-86D6-54081C038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 form, list, account, register, and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411A-DADF-4C65-89B4-478215F3F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he QuickBooks inte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6131-7F05-4BCA-8A08-946F09812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he QuickBooks User Interface fe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B614-52BD-4186-B93A-9BCF73BA3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8210-B569-4576-BBAF-F0206CBBA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he Ho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FC5B-1F5F-4637-AB82-6C183A6DE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F3B0-16DA-4597-9A11-9A57C5D4D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he help op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3B13-6EFA-4DBD-AC3B-EEF3A23FD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F8F7-9DA5-477F-BACC-104D3C9AD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5EB6-6EAB-4559-9B1F-87DE1158D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he product information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7F5F-A4C4-4D55-8EC5-A13004F3C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657D-36A8-4075-82BA-0B2D7226F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EBB8-99A7-4BFA-90C3-A4BF767AC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E943-2622-454A-981E-5C0B92D74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25CA-5027-460E-9EF8-8FF48320F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668B-D99A-4FC9-B17C-591B8AA10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4336-EDA0-4116-8971-727AF0FBFDC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6CDC-3613-4C38-A324-E6CA6E08CB6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EF81-1D45-44E2-9C4F-7CF08AD2D7A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5FC07-742D-4898-8188-1E4CECBDA29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B9FA1-BCCF-435A-9E7F-8BE7416D9D0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A2EF4-47AE-4ABE-9DFC-ED8C6984565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C68FA-60DD-4143-B02F-D75A0936AE4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92AE3-1F31-418D-B0C5-339C45CF5D3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CB302-61CC-40A2-A692-14DB3538C0C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A41DB-CED8-44FD-AC99-479610B50F5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3123-DBB3-4594-BFEB-62470C1E8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70EA1-ADEB-46C5-9F87-84B566F8868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71E2B-2AAA-412C-AC3F-019BB4DAA66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65517-20D7-4F05-BF55-991BA9D1937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9A2B-F0AC-437D-B893-75143832C89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8395D-D7C9-46F3-AA5C-B81906D8082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95F33-89A8-410B-8086-63DC81F2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C83D9-4CAE-419F-94D9-C7F98ACF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1641F-D0C0-4AB5-91ED-C87352A6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D6356-2561-4034-BA9E-58B5E594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DB8D2-F58A-4959-9075-8A926F4D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C275-C99B-4958-83D8-338E04635F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7381F-5AB3-4898-8CAF-5B0A144A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46AD0-6438-4C8F-AFD2-132A7066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B5B24-D1F0-4241-AD01-57527C7B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C51F9-7EFE-4885-90D9-E34E8663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76BAF-EF69-4BEE-9683-4118B1CC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0CF78-E166-4264-B684-77709522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545CD-E20E-42A5-972E-CE0AD088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67A50-1260-419F-84A7-551B8789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9197C-EC9D-49BD-9AD4-8BB46AD2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FD0536-04B4-4D40-96AA-6B49BF9E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7DA141-AF41-495E-B902-908D1734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536332-BE3D-41DE-85FE-26362CA5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EA0CC-A6FB-4560-A08E-55F76A62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CC7F81-7617-4A8D-AE45-E1735913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31070-C2DF-4EAD-A370-C272B5BA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F9723C-49B3-4631-A8D1-371620DC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E2F26-3843-4C27-87D9-AC0DD439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D3C3D8-D5FB-4A75-9363-BF04B3E1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FA2C13-E2C2-405D-88FA-8CF1DD1A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8C202D-FEC8-48B8-A0D2-55081573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D82D1C-8274-40E1-8CBD-21D78920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F70801-A7F7-4004-92E3-2FC74890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D338-D595-4090-A3BB-5247F84A56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CC98E-5BF3-48A8-8415-2688737C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C87E8-B763-4D06-BC58-A5B63D57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FC8E0-28D1-43FB-A241-5E1ABBA2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B4192-17D4-4791-A2A1-98DD8ACA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E2E58-281D-46BC-B933-99E9BE7D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E2258-8966-4160-BB0D-35D83BE2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14366-B171-47AB-B1AD-1AB006DC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AF6F0-381D-4081-9FFB-621AA575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E50CAC-96C6-4D8B-90D4-ECB6E377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5E355A-DADD-4866-9165-CC64C06A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C72C-C9EE-4B15-8D71-5CD8E13864B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A8E023-FC48-4AE2-B816-E5532E00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0E5DA-CA7E-4F3B-8738-1A3F6B09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82E0DA-5BA7-4B3D-B42B-A878DFF4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98DFEE-7A11-4009-8848-067F35F5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8496AA-5144-42A8-B271-9BA74F3E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FB94A-E3BF-46FD-9AF9-4F262B68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5A0ED4-481C-431E-B7A9-8B12A4CA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4D6436-B077-4CFA-8D7A-F36B146D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CD3EBB-658E-4238-89B1-68C04A8C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06AF5A-8110-4D5D-8A23-A84636E9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FA60-D87D-470C-BAAA-F874FACEDB8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BE5096-9B5D-4B38-80D7-F8753DAB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01816C-7366-4625-B2C7-26B4EA16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F2A7C-665B-44B0-8216-AE92C8C1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35F09-75CC-48DD-A01A-AF1DE0CF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B8045-00C8-46C4-997F-7BB05052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982DFD-AFED-45FC-876D-3DF0C58B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CE8E35-BD93-4984-8824-429B4FAD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0F315-7593-4D0D-9CBB-061B2608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EB231-085A-4E26-907D-0617DE1B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66553-1B6A-4576-B946-379DCAB2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1152-9156-4DB0-97D9-808CD410647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A39F07-0E5E-4CBA-AA38-C2483FD9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E58132-E4B7-4F71-BC98-05E8D59D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0819C1-3480-4903-8177-E4C7AF45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20FDC1-55ED-4972-965B-C469398C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53F14D-573A-437F-88BA-8DE2A021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52C6D0-23EF-4E24-951D-EAF511FF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52F6CD-4956-4740-96BD-AB621A02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4745F-4B23-4F40-9D25-FE7ABE9D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9DCA68-4726-46D7-A368-92CFD10A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A261F-AFDB-46E8-B5A5-87259917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8867-0CE3-46BA-BB99-BD1F8ACF10D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99C501-2223-421C-B43C-E27D8284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F738F0-A7EA-44E4-BAD5-5C05527C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96218A-E734-40B0-8F8A-CCE3663F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B03241-F7ED-40BD-89CD-9C9EEEE7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A32212-5482-402A-AC2A-29CB99DC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F9E8-B203-4815-8EBD-34B119379AD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2A39-FFC7-4626-993B-F88E71A4AA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5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8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2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7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1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5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0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fa600"/>
              </a:gs>
              <a:gs pos="50000">
                <a:srgbClr val="abea3c"/>
              </a:gs>
              <a:gs pos="100000">
                <a:srgbClr val="6fa6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fea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519732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BDFC-41B4-4564-8BBC-0E8F8CDE51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4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9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2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1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5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4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4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89DF-0EE7-424F-98CC-DE17FA9816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8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3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7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1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438B-880B-475D-A3BC-F8148593FC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7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DB3D-B923-4591-94A2-94FC75B3CD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0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F53B-9ED2-4C3C-A2FE-4032A267DD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2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3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A374-4477-4543-A819-22437A555C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6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87AE-A79F-40AB-BFBC-D494239F83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Rectangle 1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14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Lucida Sans Unicod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accrual basi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thod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venues and expenses are recognized when the transaction occu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cash basi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tho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venues and expenses are recognized when the cash changes hand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 QuickBooks, you can create reports for either metho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1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ctitious sample company used in the text boo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hoto studio and retail corpo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service and a merchandising compan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s two locations, one in San Jose and Walnut Cree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94" name=""/>
          <p:cNvSpPr txBox="1"/>
          <p:nvPr/>
        </p:nvSpPr>
        <p:spPr>
          <a:xfrm>
            <a:off x="38088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QuickBooks has three primary types of fil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ata files (extension  “.QBW”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o enter data or create report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ackup files (extension  “.QBB”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condensed, stable version of the data fi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store into a .QBW file before us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ortable files (extension “.QBM”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y condens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o move your QuickBooks data to another comput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store into a .QBW file before us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96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unch the QuickBooks progr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viously opened data file will be open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open a different file, select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i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nu and then selec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pen or Restore Compan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97" name="Picture 4" descr="C:\Users\pat\AppData\Local\Temp\SNAGHTML2d307ea.PNG"/>
          <p:cNvPicPr/>
          <p:nvPr/>
        </p:nvPicPr>
        <p:blipFill>
          <a:blip r:embed="rId2"/>
          <a:stretch/>
        </p:blipFill>
        <p:spPr>
          <a:xfrm>
            <a:off x="2109960" y="3962520"/>
            <a:ext cx="4924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in reasons for restoring backup files in QuickBooks to recover damaged or lost data fi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toring does not add information to your f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5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unch QuickBoo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i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nu &gt;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pen o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store Compan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llow on screen dire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w “.QBW” f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sures safety of your data f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ine backup safer than loc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create a backup, select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i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nu and then choos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Backu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heduled backup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5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s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count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ister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em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lend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6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91680" cy="1170000"/>
          </a:xfrm>
          <a:prstGeom prst="rect">
            <a:avLst/>
          </a:prstGeom>
          <a:ln w="0">
            <a:noFill/>
          </a:ln>
        </p:spPr>
      </p:pic>
      <p:sp>
        <p:nvSpPr>
          <p:cNvPr id="15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various methods for entering information and transac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Home Pag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ent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napsho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con Ba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Text Box 7"/>
          <p:cNvSpPr/>
          <p:nvPr/>
        </p:nvSpPr>
        <p:spPr>
          <a:xfrm>
            <a:off x="380880" y="1523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8"/>
          <p:cNvSpPr/>
          <p:nvPr/>
        </p:nvSpPr>
        <p:spPr>
          <a:xfrm>
            <a:off x="3808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con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10"/>
          <p:cNvSpPr/>
          <p:nvPr/>
        </p:nvSpPr>
        <p:spPr>
          <a:xfrm>
            <a:off x="380880" y="2963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ome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Line 12"/>
          <p:cNvSpPr/>
          <p:nvPr/>
        </p:nvSpPr>
        <p:spPr>
          <a:xfrm>
            <a:off x="1828800" y="2057400"/>
            <a:ext cx="380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Line 16"/>
          <p:cNvSpPr/>
          <p:nvPr/>
        </p:nvSpPr>
        <p:spPr>
          <a:xfrm>
            <a:off x="1981080" y="3192480"/>
            <a:ext cx="2286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Line 18"/>
          <p:cNvSpPr/>
          <p:nvPr/>
        </p:nvSpPr>
        <p:spPr>
          <a:xfrm>
            <a:off x="1447920" y="1752480"/>
            <a:ext cx="761760" cy="76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2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me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5" name="Picture 9" descr="C:\Users\DPEMBR~1\AppData\Local\Temp\SNAGHTML1840610.PNG"/>
          <p:cNvPicPr/>
          <p:nvPr/>
        </p:nvPicPr>
        <p:blipFill>
          <a:blip r:embed="rId1"/>
          <a:stretch/>
        </p:blipFill>
        <p:spPr>
          <a:xfrm>
            <a:off x="2392200" y="1535040"/>
            <a:ext cx="644076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73" name=""/>
          <p:cNvSpPr txBox="1"/>
          <p:nvPr/>
        </p:nvSpPr>
        <p:spPr>
          <a:xfrm>
            <a:off x="456840" y="17226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 overview of the QuickBooks product li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me of the basic principles of account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accounting behind the scenes in QuickBook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 overview of QuickBooks data files and typ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pening Portable Fi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ow to restore backup fil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ntering Transactions in QuickBook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QuickBooks user interface featur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bout QuickBooks help and suppor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6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on tasks are shown as icon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ve reg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ustome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endo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mploye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mpan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ank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count Bala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lect activit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be customiz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20" name="Picture 4" descr="C:\Users\DPEMBR~1\AppData\Local\Temp\SNAGHTML18a73df.PNG"/>
          <p:cNvPicPr/>
          <p:nvPr/>
        </p:nvPicPr>
        <p:blipFill>
          <a:blip r:embed="rId2"/>
          <a:stretch/>
        </p:blipFill>
        <p:spPr>
          <a:xfrm>
            <a:off x="554040" y="3157560"/>
            <a:ext cx="803592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ety of support resourc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access the support resources, select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elp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nu and then select QuickBooks Help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ickBooks Learning Cen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 overview of the QuickBooks product li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me of the basic principles of account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accounting behind the scenes in QuickBook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 overview of QuickBooks data files and typ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pening Portable Fi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ow to restore backup fil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ntering Transactions in QuickBook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QuickBooks user interface featur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bout QuickBooks help and suppor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75" name=""/>
          <p:cNvSpPr txBox="1"/>
          <p:nvPr/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nline Edi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46483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emier and Enterpri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ccounta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ntract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nprofi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nufacturing &amp; Wholesa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fessional Servi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tai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tches provided by Intui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xes problems with earlier rele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verify the release level, pres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trl+1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or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F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while QuickBooks is run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80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asses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financial position of the organization relative to its debts (liabilitie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s capabilities to satisfy those debts and continue operations (assets), an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difference between liabilities and assets (net worth or equity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ccounting Equation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sets = Liabilities + Equity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637480" cy="1230120"/>
          </a:xfrm>
          <a:prstGeom prst="rect">
            <a:avLst/>
          </a:prstGeom>
          <a:ln w="0">
            <a:noFill/>
          </a:ln>
        </p:spPr>
      </p:pic>
      <p:sp>
        <p:nvSpPr>
          <p:cNvPr id="1482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siness transactions are recorded in several types of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ledger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called accou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ummary of all transactions is called the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Genera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Ledg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listing of every account is called the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Chart of Accoun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account has a type (i.e., asset, liability, equity, income, or expens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marily five account typ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sse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iabil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qu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com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pen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tal debits must always equal total credi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bits = Credi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ouble Entry Accoun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very transaction creates a debit in one or more accounts and a credit in one or more accoun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debit might increase or decrease an account; the same is true of credi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pending on the type of accou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bits are not always “bad” and credits are not always “good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4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nsactions are entered in form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voices, Bills and Check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ickBooks handles the debits and credi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7:25:39Z</dcterms:created>
  <dc:creator>The Sleeter Group, Inc.</dc:creator>
  <dc:description/>
  <dc:language>en-US</dc:language>
  <cp:lastModifiedBy>Deborah Pembrook</cp:lastModifiedBy>
  <dcterms:modified xsi:type="dcterms:W3CDTF">2011-12-09T04:23:28Z</dcterms:modified>
  <cp:revision>195</cp:revision>
  <dc:subject/>
  <dc:title>Chapter 1 Introducing QuickBooks</dc:title>
</cp:coreProperties>
</file>